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Максимова В В" initials="МВВ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<Relationship Id="rId45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7-03-30T14:27:16.171000000" idx="1">
    <p:pos x="5760" y="79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69A6-2A08-49A3-AF23-A01C12CF19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D2C4-9674-4930-B06D-B01676824A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 вид МПК на сайте ВО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9AE0-8CC2-4029-A206-20491E8644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МПК на сайте ФИ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9672-B1A8-47F2-9B4D-5E47DC787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тентная документация, с одной стороны, является правовой документацией. С этой точки зрения важны сведения о заявителе, правообладателе, правовом статусе (действует – не действует), сроках начала действия патента и прекращения его действия, странах, в которых он дей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другой стороны, патент по определению содерж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науч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техническую информацию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азных целей при поисках бывает важна та или иная его сторона. И всё же в первую очередь большую часть пользователей интересует возможность поиска технической информации, содержащейся в патентных документах. И только потом, для конкретных найденных патентов ведутся поиски их правового стат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этому со времен зарождения патентных фондов встал вопрос о возможности объединения патентных документов по их технической общности, т.е. вопрос их классификации по технической сущности. Уже в конце 19 века первые подобные системы зародились в Германии, Нидерландах, Великобритании и США. Чуть позже - в Бельгии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 времена бумажных фондов поисковые возможности пользователей были ограничены возможностями, предоставляемыми расстановкой документов в фонде и их каталогизацией. Практически это была возможность поиска только по библиографическим данным (страна, номера заявок, патентов, даты, название, правообладатель и индекс классификации). Поэтому при поиске технической сущности классификация играла основную 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684C-06AA-4D3E-A304-2B918B22D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7B7D-75EE-469C-A3E0-706B0A056A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0" y="43430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настоящее время вся мировая патентная документация переведена в электронный вид и доступна для поиска в многочисленных электронных база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ые возможности поиска на первых порах, да нередко и сейчас, соблазняют возможностью поиска по словам в текстах док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ловек, ищущий документы по какой-либо сформулированной им теме, или эксперт, рассматривающий конкретную заявку, в начале поиска даже не предполагает, что данная тема или данное техническое решение могут быть описаны не теми словами, которые он подобрал для поиска. Однако опыт показывает противоположную картину: одно и то же техническое решение разными людьми описывается с помощью разных терм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ие изобретатели изобретают не только устройства и способы, но и свои термины для их описания тоже. Кроме того, существует и профессиональные термины, причем даже в разных организациях одной отрасли часто используются разные профессиональные термины для одинаковых понятий. Что уж говорить о разных отраслях и, тем более, разных странах. Плюс разнообразие, вносимое словарями и переводчиками. Кроме того, очень сложно описывать чисто конструктивные решения («отверстие вверху левой стенки справа от прорез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стройства для разделения материалов, добытых из скважины при добыче нефтепродуктов» (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E21B 43/34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. Детали или принадлежности больших контейнеров - размещение на них устройств для индикации или измерения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90/48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Разделение несмешивающихся жидкостей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B01D 17/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1FB0-1AE7-4FBD-AD88-F6DC114E32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35/0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устройства для отверждения волновой энергией или облучением частицами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29C 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-;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ормование веществ в пластическом состоянии, …; последующая обработка формованны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979F-8E05-463C-AE99-8F1F19B218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13840" y="4343040"/>
            <a:ext cx="66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ечно, для проведения поиска можно и нужно подбирать все возможные синонимы для всех терминов, которые Вы считаете важными, причем и на русском, и на английском языках. Но из приведенных примеров видно, что для поиска патентов, сходных по технической сущности, без дополнительных инструментов поиска не обойт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инструментом поиска являются патентные классифик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сколько авторов таких систем, столько и сами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ере роста международной торговли, зарубежного патентования и обмена информацией наличие множества разных систем патентной классификации стало вызывать определенные трудности. Приходилось для патентных документов каждой страны изучать и их национальную классифика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ыми сумели преодолеть эту разобщенность европейцы. Уже в начале 20 века – первые попытки создания общеевропейской классификации. А в 1950-х годах была разработана европейская международная классификация техники в основном на базе голландской и немецкой классификаций. Независимо от этого в 1968 г была опубликована первая редакция Международной патентной классификации (МПК ил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PC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. Через 23 года, к 1991г, европейцы сумели совместить свою классификацию (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LA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с международной, оставив свою более дробной, чем МПК. На основе этой европейской классификации с 2010 по 2013г совместно с США была создана самая современная классификация – СРС (совместная патентная классификация ил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operative patent classification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11E-1193-42C8-A49D-07B3481858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CE19-BD7F-4727-9F6A-785AFF5B1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B98-BC3F-44AE-80AB-1CE08EFA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F09-184C-491B-80DD-12275F5C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45E-5361-4EB0-B14C-B3F8F9CE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DD9-1AE9-46C6-93B8-A67BF4DF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2655-1481-4515-AF98-9CAF942A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89E1-2D10-4180-9829-A89CE311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2900-2EC7-46A1-A960-0F1A57FB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CBB8-FDE6-47AC-AE4D-A5E7E639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23BE-3DF4-41AA-8694-9B8B337E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1A34-F34F-4B9C-AF7A-05301D5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30C3-EFCC-4DF5-827D-9498DE8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E05-B155-4684-8456-439676D4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E4B0-1F4D-4F9A-94E9-4DF0C9FE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0D7F-78A6-4D6A-BF0E-D42A350A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3A1E-0632-4713-A7B6-37BEE761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4A5D-9DFD-4CE3-9242-BD67D161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337F-2288-470E-B97D-37F23CDE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0B67-39A6-4890-B602-863F0EA8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5282-92F0-4840-BFAD-A46E6C0A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784C-F429-4D88-B7C4-7FBBA9FC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E679-7080-48C6-A461-243FF4B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2FE0-B19D-487D-BDFF-02CA8D0A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CD1-B53F-40AB-A1FA-2F82A066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4334-5DB7-4FCA-ABF7-37B005A3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AE0D-1EDC-4AEA-9175-F1EF7DA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1EB3-A221-4D18-B205-952D5E17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28FC3-F23D-4E18-AF7D-9EC18024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99ED-B7D9-4ADE-AFED-5E63B480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5850-B04A-4AD3-A906-4A567FEE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A60B-F105-4106-8F63-5B4527CA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1914A-3EBC-4C5A-A32A-E58B48C6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0072-1187-495E-B302-6FB0CC7F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82A1-E34A-4BD7-834F-0936D080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A71-5D9B-4277-98DF-C35189FB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2639-B7BC-4D12-A0C6-FCC7C287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106A-6E75-4178-BB24-A021EAA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BCE9-F838-42BF-81CF-6D5B105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7399-FD97-4BE1-B6F6-00614CE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C37F9-A91C-472A-99D4-1F3A910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CF4A2-6BFC-4CF1-B124-6863130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7CF89-A7D5-4F51-A337-A3318BE4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D753A-A34B-4695-83B1-1C6E1BC9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8815-72D3-4841-B0D8-682F5D07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7CB-8F6A-4164-8211-FC64C197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863-9B6D-4F61-B40D-92C0CEFE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716-9B6A-4C8B-B140-2EA465F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41E-FE1F-4FA8-9DEA-9062ADE6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3FA-4BFD-40B7-BA68-47657C1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C8A4-949C-40FC-B6E3-898D6AC477B1}" type="datetime">
              <a:rPr b="0" lang="ru-RU" sz="1200" spc="-1" strike="noStrike">
                <a:solidFill>
                  <a:srgbClr val="898989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7F7-E52E-470E-A553-3282A164570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659A-DE56-4D2D-B3A8-806A82A8A5A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DAA1-0C03-4DE1-B764-CB09E66356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1785960" y="0"/>
            <a:ext cx="5329080" cy="73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73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50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63AC-5DDC-4EF7-BD38-D25EFED3ACD0}" type="datetime">
              <a:rPr b="0" lang="ru-RU" sz="1200" spc="-1" strike="noStrike">
                <a:solidFill>
                  <a:srgbClr val="c0504d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5786280"/>
            <a:ext cx="28958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4CC0-207B-4AD1-ADE8-974339F2F55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E774-EC9C-455E-8AEB-52172ECACAFC}" type="datetime">
              <a:rPr b="0" lang="ru-RU" sz="1200" spc="-1" strike="noStrike">
                <a:solidFill>
                  <a:srgbClr val="898989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5794-7E99-4072-ADDE-3D613594F34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1.fips.ru/wps/portal/IPC/IPC2016_extended_XML/?xml=http://www1.fips.ru/IPC2016_extended_XML/AIpc-20160101_subclass-F_XML%5CAIpc20160101-F16K.xml" TargetMode="External"/><Relationship Id="rId2" Type="http://schemas.openxmlformats.org/officeDocument/2006/relationships/hyperlink" Target="http://www1.fips.ru/wps/portal/IPC/IPC2016_extended_XML/?xml=http://www1.fips.ru/IPC2016_extended_XML/AIpc-20160101_subclass-A_XML%5CAIpc20160101-A61F.xml" TargetMode="External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comments" Target="../comments/commen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2.wipo.int/classifications/ipc/ipcpub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2804"/>
                </a:solidFill>
                <a:latin typeface="Arial"/>
                <a:ea typeface="Arial"/>
              </a:rPr>
              <a:t>Использование патентной классификации для поиска</a:t>
            </a:r>
            <a:br>
              <a:rPr sz="4000"/>
            </a:br>
            <a:r>
              <a:rPr b="1" lang="ru-RU" sz="4000" spc="-1" strike="noStrike">
                <a:solidFill>
                  <a:srgbClr val="542804"/>
                </a:solidFill>
                <a:latin typeface="Arial"/>
                <a:ea typeface="Arial"/>
              </a:rPr>
              <a:t>на примере Международной патентной классификации (МПК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0" y="371448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Семинар по поиску в патентных базах данных и развитию Центров Поддержки Технологий и Инноваций (ЦПТИ) в Республике Узбекист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2804"/>
                </a:solidFill>
                <a:latin typeface="Arial"/>
                <a:ea typeface="Arial"/>
              </a:rPr>
              <a:t>Ташкент 26-27 марта 2019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С.н.с.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 32 ФИПС 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         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. </a:t>
            </a: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Войцеховск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    </a:t>
            </a:r>
            <a:r>
              <a:rPr b="0" lang="ru-RU" sz="1000" spc="-1" strike="noStrike">
                <a:solidFill>
                  <a:srgbClr val="98480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84807"/>
                </a:solidFill>
                <a:latin typeface="Verdana"/>
              </a:rPr>
              <a:t>orpos@rupto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труктура МП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МПК состоит из Руководства к МПК, Схемы (перечень рубрик) и Определений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ерархическое  построение Схемы МПК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я – самые детальные руководства по МПК в каждой конкретной обла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имечания и отсылки в Схеме и Определения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ересмотры МПК. Указатели версий как возможность прослеживания изменений в МП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уководство к МПК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uide to the IPC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7D19-B17C-4109-B679-A91F68CD91F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comic"/>
              </a:rPr>
              <a:t>Иерархическая структура МП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5F11-F7FD-4A03-8D60-33C85CB9544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Diagram 3"/>
          <p:cNvGrpSpPr/>
          <p:nvPr/>
        </p:nvGrpSpPr>
        <p:grpSpPr>
          <a:xfrm>
            <a:off x="2179800" y="1627920"/>
            <a:ext cx="4786920" cy="5100120"/>
            <a:chOff x="2179800" y="1627920"/>
            <a:chExt cx="4786920" cy="5100120"/>
          </a:xfrm>
        </p:grpSpPr>
        <p:sp>
          <p:nvSpPr>
            <p:cNvPr id="208" name="_s1028"/>
            <p:cNvSpPr/>
            <p:nvPr/>
          </p:nvSpPr>
          <p:spPr>
            <a:xfrm flipH="1" flipV="1">
              <a:off x="3867840" y="2358720"/>
              <a:ext cx="603000" cy="15501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29"/>
            <p:cNvSpPr/>
            <p:nvPr/>
          </p:nvSpPr>
          <p:spPr>
            <a:xfrm>
              <a:off x="3485520" y="18003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30"/>
            <p:cNvSpPr/>
            <p:nvPr/>
          </p:nvSpPr>
          <p:spPr>
            <a:xfrm flipH="1" flipV="1">
              <a:off x="3268080" y="2784960"/>
              <a:ext cx="1114560" cy="11854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031"/>
            <p:cNvSpPr/>
            <p:nvPr/>
          </p:nvSpPr>
          <p:spPr>
            <a:xfrm>
              <a:off x="2799000" y="229104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2"/>
            <p:cNvSpPr/>
            <p:nvPr/>
          </p:nvSpPr>
          <p:spPr>
            <a:xfrm flipH="1" flipV="1">
              <a:off x="2867760" y="3422160"/>
              <a:ext cx="1455120" cy="6426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033"/>
            <p:cNvSpPr/>
            <p:nvPr/>
          </p:nvSpPr>
          <p:spPr>
            <a:xfrm>
              <a:off x="2340720" y="302400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4"/>
            <p:cNvSpPr/>
            <p:nvPr/>
          </p:nvSpPr>
          <p:spPr>
            <a:xfrm flipH="1">
              <a:off x="2726280" y="4176000"/>
              <a:ext cx="15750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5"/>
            <p:cNvSpPr/>
            <p:nvPr/>
          </p:nvSpPr>
          <p:spPr>
            <a:xfrm>
              <a:off x="2179800" y="38883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 flipH="1">
              <a:off x="2867760" y="4286520"/>
              <a:ext cx="1455120" cy="6426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37"/>
            <p:cNvSpPr/>
            <p:nvPr/>
          </p:nvSpPr>
          <p:spPr>
            <a:xfrm>
              <a:off x="2342160" y="475272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38"/>
            <p:cNvSpPr/>
            <p:nvPr/>
          </p:nvSpPr>
          <p:spPr>
            <a:xfrm flipH="1">
              <a:off x="3268080" y="4380840"/>
              <a:ext cx="1113120" cy="11854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9"/>
            <p:cNvSpPr/>
            <p:nvPr/>
          </p:nvSpPr>
          <p:spPr>
            <a:xfrm>
              <a:off x="2802600" y="548604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40"/>
            <p:cNvSpPr/>
            <p:nvPr/>
          </p:nvSpPr>
          <p:spPr>
            <a:xfrm flipH="1">
              <a:off x="3865680" y="4442760"/>
              <a:ext cx="603000" cy="15501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41"/>
            <p:cNvSpPr/>
            <p:nvPr/>
          </p:nvSpPr>
          <p:spPr>
            <a:xfrm>
              <a:off x="3490560" y="597420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42"/>
            <p:cNvSpPr/>
            <p:nvPr/>
          </p:nvSpPr>
          <p:spPr>
            <a:xfrm>
              <a:off x="4571640" y="4465080"/>
              <a:ext cx="1440" cy="16779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43"/>
            <p:cNvSpPr/>
            <p:nvPr/>
          </p:nvSpPr>
          <p:spPr>
            <a:xfrm>
              <a:off x="4301640" y="61455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44"/>
            <p:cNvSpPr/>
            <p:nvPr/>
          </p:nvSpPr>
          <p:spPr>
            <a:xfrm>
              <a:off x="4677840" y="4442760"/>
              <a:ext cx="600840" cy="15523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45"/>
            <p:cNvSpPr/>
            <p:nvPr/>
          </p:nvSpPr>
          <p:spPr>
            <a:xfrm>
              <a:off x="5113440" y="59727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46"/>
            <p:cNvSpPr/>
            <p:nvPr/>
          </p:nvSpPr>
          <p:spPr>
            <a:xfrm>
              <a:off x="4765680" y="4380840"/>
              <a:ext cx="1113120" cy="11876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47"/>
            <p:cNvSpPr/>
            <p:nvPr/>
          </p:nvSpPr>
          <p:spPr>
            <a:xfrm>
              <a:off x="5801400" y="548208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48"/>
            <p:cNvSpPr/>
            <p:nvPr/>
          </p:nvSpPr>
          <p:spPr>
            <a:xfrm>
              <a:off x="4824360" y="4286520"/>
              <a:ext cx="1455120" cy="644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49"/>
            <p:cNvSpPr/>
            <p:nvPr/>
          </p:nvSpPr>
          <p:spPr>
            <a:xfrm>
              <a:off x="6259680" y="474912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50"/>
            <p:cNvSpPr/>
            <p:nvPr/>
          </p:nvSpPr>
          <p:spPr>
            <a:xfrm>
              <a:off x="4844880" y="4176000"/>
              <a:ext cx="1575000" cy="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51"/>
            <p:cNvSpPr/>
            <p:nvPr/>
          </p:nvSpPr>
          <p:spPr>
            <a:xfrm>
              <a:off x="6420240" y="38847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52"/>
            <p:cNvSpPr/>
            <p:nvPr/>
          </p:nvSpPr>
          <p:spPr>
            <a:xfrm flipV="1">
              <a:off x="4824360" y="3423960"/>
              <a:ext cx="1455120" cy="640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53"/>
            <p:cNvSpPr/>
            <p:nvPr/>
          </p:nvSpPr>
          <p:spPr>
            <a:xfrm>
              <a:off x="6258240" y="302004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54"/>
            <p:cNvSpPr/>
            <p:nvPr/>
          </p:nvSpPr>
          <p:spPr>
            <a:xfrm flipV="1">
              <a:off x="4764240" y="2784960"/>
              <a:ext cx="1114560" cy="11854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55"/>
            <p:cNvSpPr/>
            <p:nvPr/>
          </p:nvSpPr>
          <p:spPr>
            <a:xfrm>
              <a:off x="5797800" y="228708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56"/>
            <p:cNvSpPr/>
            <p:nvPr/>
          </p:nvSpPr>
          <p:spPr>
            <a:xfrm flipV="1">
              <a:off x="4675680" y="2358720"/>
              <a:ext cx="603000" cy="15501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57"/>
            <p:cNvSpPr/>
            <p:nvPr/>
          </p:nvSpPr>
          <p:spPr>
            <a:xfrm>
              <a:off x="5109840" y="17985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58"/>
            <p:cNvSpPr/>
            <p:nvPr/>
          </p:nvSpPr>
          <p:spPr>
            <a:xfrm flipV="1">
              <a:off x="4571640" y="2210400"/>
              <a:ext cx="0" cy="16776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59"/>
            <p:cNvSpPr/>
            <p:nvPr/>
          </p:nvSpPr>
          <p:spPr>
            <a:xfrm>
              <a:off x="4298040" y="162792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60"/>
            <p:cNvSpPr/>
            <p:nvPr/>
          </p:nvSpPr>
          <p:spPr>
            <a:xfrm>
              <a:off x="4298040" y="3888360"/>
              <a:ext cx="546480" cy="582480"/>
            </a:xfrm>
            <a:prstGeom prst="ellipse">
              <a:avLst/>
            </a:prstGeom>
            <a:solidFill>
              <a:srgbClr val="bb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5"/>
          <p:cNvSpPr/>
          <p:nvPr/>
        </p:nvSpPr>
        <p:spPr>
          <a:xfrm>
            <a:off x="285840" y="1285920"/>
            <a:ext cx="2714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6"/>
          <p:cNvSpPr/>
          <p:nvPr/>
        </p:nvSpPr>
        <p:spPr>
          <a:xfrm>
            <a:off x="6500880" y="60721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A01 – A63 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Иерархия схемы МП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делы – 8: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C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  <a:ea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31859c"/>
                </a:solidFill>
                <a:latin typeface="Arial"/>
                <a:ea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сы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13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Например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классы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63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Например, А61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уппы –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7298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151C-C56C-4850-9F60-727D2C57574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            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класс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под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группы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  <a:ea typeface="Arial"/>
              </a:rPr>
              <a:t>подгрупп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Verdana"/>
              </a:rPr>
              <a:t>Иерархическая структура МП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3D2E-4A16-4BBE-AF88-46035C7ED99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Diagram 35"/>
          <p:cNvGrpSpPr/>
          <p:nvPr/>
        </p:nvGrpSpPr>
        <p:grpSpPr>
          <a:xfrm>
            <a:off x="3786120" y="2234880"/>
            <a:ext cx="4682880" cy="4029480"/>
            <a:chOff x="3786120" y="2234880"/>
            <a:chExt cx="4682880" cy="4029480"/>
          </a:xfrm>
        </p:grpSpPr>
        <p:sp>
          <p:nvSpPr>
            <p:cNvPr id="250" name="_s2052"/>
            <p:cNvSpPr/>
            <p:nvPr/>
          </p:nvSpPr>
          <p:spPr>
            <a:xfrm flipV="1">
              <a:off x="5542200" y="2234520"/>
              <a:ext cx="1170360" cy="1007640"/>
            </a:xfrm>
            <a:custGeom>
              <a:avLst/>
              <a:gdLst>
                <a:gd name="textAreaLeft" fmla="*/ 419760 w 1170360"/>
                <a:gd name="textAreaRight" fmla="*/ 750600 w 1170360"/>
                <a:gd name="textAreaTop" fmla="*/ 361440 h 1007640"/>
                <a:gd name="textAreaBottom" fmla="*/ 6462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33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53"/>
            <p:cNvSpPr/>
            <p:nvPr/>
          </p:nvSpPr>
          <p:spPr>
            <a:xfrm flipV="1">
              <a:off x="4956480" y="3242520"/>
              <a:ext cx="2341800" cy="1007640"/>
            </a:xfrm>
            <a:custGeom>
              <a:avLst/>
              <a:gdLst>
                <a:gd name="textAreaLeft" fmla="*/ 514800 w 2341800"/>
                <a:gd name="textAreaRight" fmla="*/ 1827000 w 2341800"/>
                <a:gd name="textAreaTop" fmla="*/ 221400 h 1007640"/>
                <a:gd name="textAreaBottom" fmla="*/ 78624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01B … A01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54"/>
            <p:cNvSpPr/>
            <p:nvPr/>
          </p:nvSpPr>
          <p:spPr>
            <a:xfrm flipV="1">
              <a:off x="4371120" y="4251240"/>
              <a:ext cx="3512520" cy="1005840"/>
            </a:xfrm>
            <a:custGeom>
              <a:avLst/>
              <a:gdLst>
                <a:gd name="textAreaLeft" fmla="*/ 609840 w 3512520"/>
                <a:gd name="textAreaRight" fmla="*/ 2902680 w 3512520"/>
                <a:gd name="textAreaTop" fmla="*/ 174600 h 1005840"/>
                <a:gd name="textAreaBottom" fmla="*/ 831240 h 10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01B1/00…A01B79/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55"/>
            <p:cNvSpPr/>
            <p:nvPr/>
          </p:nvSpPr>
          <p:spPr>
            <a:xfrm flipV="1">
              <a:off x="3786120" y="5256360"/>
              <a:ext cx="4682880" cy="1007640"/>
            </a:xfrm>
            <a:custGeom>
              <a:avLst/>
              <a:gdLst>
                <a:gd name="textAreaLeft" fmla="*/ 704520 w 4682880"/>
                <a:gd name="textAreaRight" fmla="*/ 3978360 w 4682880"/>
                <a:gd name="textAreaTop" fmla="*/ 151560 h 1007640"/>
                <a:gd name="textAreaBottom" fmla="*/ 85608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cc66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01B1/02 …A01B1/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4" name="Прямая со стрелкой 8"/>
          <p:cNvCxnSpPr/>
          <p:nvPr/>
        </p:nvCxnSpPr>
        <p:spPr>
          <a:xfrm flipH="1" flipV="1">
            <a:off x="3928680" y="3428640"/>
            <a:ext cx="1572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Прямая со стрелкой 10"/>
          <p:cNvCxnSpPr/>
          <p:nvPr/>
        </p:nvCxnSpPr>
        <p:spPr>
          <a:xfrm flipH="1" flipV="1">
            <a:off x="3071160" y="4500360"/>
            <a:ext cx="17866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Прямая со стрелкой 15"/>
          <p:cNvCxnSpPr/>
          <p:nvPr/>
        </p:nvCxnSpPr>
        <p:spPr>
          <a:xfrm flipH="1" flipV="1">
            <a:off x="4642920" y="2356560"/>
            <a:ext cx="1501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Прямая со стрелкой 17"/>
          <p:cNvCxnSpPr/>
          <p:nvPr/>
        </p:nvCxnSpPr>
        <p:spPr>
          <a:xfrm flipH="1" flipV="1">
            <a:off x="2999520" y="550044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  <a:ea typeface="Arial"/>
              </a:rPr>
              <a:t>Иерархия подгрупп указывается числом точек, стоящих перед  текстами (заголовками) подгрупп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A43B 1/0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вь, характеризуемая материалом (слоист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делия B 32B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A43B 1/02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вь из волокон животного и растительн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схождения или выработанных из них ткан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A43B 1/04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.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етеная, трикотажная, вязаная крючком или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ц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Подчиненность в группе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E5C1-77D9-4A07-A66F-F12F3800960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Раздел, подразделы и класс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9F36-2235-483D-A7AF-913A82C31B8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f497d"/>
                </a:solidFill>
                <a:latin typeface="Arial"/>
                <a:ea typeface="Arial"/>
              </a:rPr>
              <a:t>Подклассы, группы и подгруппы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D91B-D656-4D9E-8AC7-006A25BACC9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Индексирующие схем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а МПК с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гибридной систе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61К или B23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E502-C31A-4886-A7EA-6950939794F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642960" y="1928880"/>
            <a:ext cx="8001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1f497d"/>
                </a:solidFill>
                <a:latin typeface="Arial Narrow"/>
                <a:ea typeface="Arial"/>
              </a:rPr>
              <a:t>Некоторые аспекты классифицирования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обретательская и дополнительная информ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нное и многоаспектное классифиц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ведущие ведомства (в том числе Роспатент) классифицируют патентные документы по полной Схеме (по всем группам, включая все подгрупп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ведомства – либо по основным группам, либо  - по подкласс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сь индексов МПК на документ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1EAD-D1CF-481D-A976-10DB84B07D7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1643040" y="4786200"/>
            <a:ext cx="69296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 Narrow"/>
              </a:rPr>
              <a:t>Два типа подразделений в МПК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ьно – ориентированные подразделения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07 – органические подразделения «вообще»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B01D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– фильтры «вообще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риентированные по применению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птические фильтры, фильтры для очистки воды, электронны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тносительность такого де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имер: Е03С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16K</a:t>
            </a: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E03C 1/0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.водопроводное оборудование для умывальников и ванн (краны, краны-смесители  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F 16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E03C 1/04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    ...вентили, краны для уборных или ванн, прикрепляемые к сте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F16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Клапаны; краны; задвижки; …. 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54 отсылки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.ч.  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A 61F 2/2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 Сердечные клапа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FA6-5522-40CA-BEAD-3151FD7030A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оиск патентной информ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иск - основа как экспертизы, так и всех патентных исследо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ва основных аспекта патентной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авовой аспек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учно-технический аспек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Более 95 млн. патентных докумен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10 лет ежегодно добавляется по 1 млн. докумен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озникновение патентных классификац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нец 19 века – Германия, Нидерланды, Великобритания, США и Бельг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40E-3D76-4975-9F70-40C837EDA39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Вспомогательные инструменты  в МП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F0C6-1E3B-4869-8D3A-D73269C2532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206280" y="1268280"/>
            <a:ext cx="873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Структура Определени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2F9A-A41B-4769-9630-1A1FC4BFBD5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8929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Verdana"/>
              </a:rPr>
              <a:t>Вспомогательные инструменты  в МПК на сайте ФИП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2AB6-2F47-4C51-ABBB-B0C6AE56EFF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572680" cy="2857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500040" y="3676680"/>
            <a:ext cx="8372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Отсылки к БД и классификация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9C10-DCA3-460A-B2CB-7F8BAF5F321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286480" cy="1928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2071800" y="2928960"/>
            <a:ext cx="521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предмета / объекта по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деление существенных призна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области поиска – диапазона классификационных индек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Подготовка к поиску </a:t>
            </a:r>
            <a:r>
              <a:rPr b="1" lang="ru-RU" sz="2000" spc="-1" strike="noStrike">
                <a:solidFill>
                  <a:srgbClr val="1f497d"/>
                </a:solidFill>
                <a:latin typeface="Verdan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9F26-A9FA-470C-873A-94591BECC39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ренажер содержит установленный на платформе манекен с одной или двумя руками и одной или двумя ногами, средства для изменения положения рук и/или ног манекена, блок управления и регистрирующее устройство. Средства для изменения положения рук и/или ног снабжены исполнительными механизмами, подключенными к выходу блока управления, который соединен с регистрирующим устройств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Примеры для классифицирова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418E-8C00-453B-A418-DDCCF8A7943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назначен для тренировок спортсменов, занимающихся игрой с мяч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тренажер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BC4-AF6D-404A-9CA9-2E6800A4D35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Users\otd3202\Desktop\00000001-m.gif"/>
          <p:cNvPicPr/>
          <p:nvPr/>
        </p:nvPicPr>
        <p:blipFill>
          <a:blip r:embed="rId1"/>
          <a:stretch/>
        </p:blipFill>
        <p:spPr>
          <a:xfrm>
            <a:off x="1857240" y="2214720"/>
            <a:ext cx="496260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лючевых сл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бор синонимов ключевых сл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ск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вод ключевых слов на другие язы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бор синонимов ключевых слов на английск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бор подходящих мест в классификаци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Логически - последова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ор «сверху вниз» от раздела до подгруп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всех примечаний и отсылок  к каждому просматриваемому подразделению; желательно – и Определ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Подготовка к поиску </a:t>
            </a:r>
            <a:r>
              <a:rPr b="1" lang="ru-RU" sz="2000" spc="-1" strike="noStrike">
                <a:solidFill>
                  <a:srgbClr val="1f497d"/>
                </a:solidFill>
                <a:latin typeface="Verdan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6752-FF3D-44D1-9D39-E6CFE398CEC2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Инструменты поиска нужных рубрик МП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C67C-8B08-4926-805E-9FDB4320481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бор подходящих мест в классифик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специальных инструм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ском язык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Алфавитно-предметный указатель (АПУ) на диске с МП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английском язы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трани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C Publicat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ск рубрик по терминам (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Terms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Cross-reference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тексте МПК, отсылок и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Catch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ST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ует рубрики МПК, чаще всего проставленные на документах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ENTSCO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в которых встречается заданный термин (термин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IPCC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«категоризатор», «прогнозирование» рубрик по введенному тексту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Инструменты поиска рубри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9E33-FFED-43D3-B90C-942BA751A94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86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 Narrow"/>
              </a:rPr>
              <a:t>Переход в электронную среду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иск в электронной сред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 поиска по тек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еполнота поиска по слов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т единства терми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ногоязычные фо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меры разной терминологии в одной темати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ренирование подтоварной воды из резервуара»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лив из резервуара выделившейся из нефти воды;</a:t>
            </a:r>
            <a:br>
              <a:rPr sz="2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деление нефти и воды в резервуар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откачка воды из резервуа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E0D3-0577-4484-AE0C-979771BA0EB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1294-5CC4-4F1F-9B86-2462FEC7A3E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Результаты поиска рубрик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572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Результат подготовки к поиск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B20-8579-4426-BB0C-61203F1D67C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обраны ключевые слова и их синонимы на русском и английском (по крайней мере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обраны подходящие рубрики МП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мотрены все примечания, отсылки и Определения к отобранным рубрикам. В случае целесообразности просмотрены дополнительные рубрики МП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ены рубрики и для применения , и функциональ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а целесообразность использования при поиске сочетания нескольких рубр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не найдена прямая рубрика для сложного (комбинированного) устройства или способа, нужно просмотреть рубрики для их проду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чинаем с крупных баз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ем все термины и рубрики сразу в одном запро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одим поиск по одному варианту поисковых терминов  - это могут быть: ключевые слова, рубрики МПК, даты, страны, заявители или  и т.д. Запросы – по возможности коротк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уем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бираем из них другие ключевые слова и рубрики класс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четаем варианты ключевых слов с разными рубриками класс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уем результаты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Начало поис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B34D-C487-4F2E-A532-763DB68CF79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цесс поис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431D-BE28-415F-9AE5-609856F5BA8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поиска – постепенный:  используем различные сочетания ключевых слов, рубрик классификации и других поисковых термин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перебраны все отобранные варианты синонимов ключевых слов и рубрик, а искомые документы не выявле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ытаемся по-новому сформулировать предмет поис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щем новые «концепции», синонимы и рубр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торяем весь процесс снова с новыми термин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404-7F04-4D29-AE3B-528339BE0EE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Примерная стратегия составления запроса</a:t>
            </a:r>
            <a:r>
              <a:rPr b="1" lang="en-US" sz="4000" spc="-1" strike="noStrike">
                <a:solidFill>
                  <a:srgbClr val="1f497d"/>
                </a:solidFill>
                <a:latin typeface="Verdana"/>
              </a:rPr>
              <a:t> –</a:t>
            </a: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1f497d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йти: лечение зрения с помощью лазер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английском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eatment, eyesight, la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pacen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езульта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м члены патентного семейства, исследуем терминологию в названиях/ рефер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аще всего – коррекция, а не леч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рен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sion, eye, sight, eye-s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B6E8-185A-40E5-AA51-FCA1BBB9472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Примерная стратегия составления запроса</a:t>
            </a:r>
            <a:r>
              <a:rPr b="1" lang="en-US" sz="4000" spc="-1" strike="noStrike">
                <a:solidFill>
                  <a:srgbClr val="1f497d"/>
                </a:solidFill>
                <a:latin typeface="Verdana"/>
              </a:rPr>
              <a:t> –</a:t>
            </a: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(</a:t>
            </a: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овый запрос: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correc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d eye* and laser =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нова исследуем тексты названий и реферат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оррекция пишется и как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correc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овый запрос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rrect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ye* OR vision OR sight) and laser = 668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уя полученные документы, выявляем МПК, проставленные на документах и определяем наиболее подходящую рубрику. Проводим по ней пои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EDEE-A16E-4490-B685-C59741DC7E6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Примерная стратегия составления запроса</a:t>
            </a:r>
            <a:r>
              <a:rPr b="1" lang="en-US" sz="4000" spc="-1" strike="noStrike">
                <a:solidFill>
                  <a:srgbClr val="1f497d"/>
                </a:solidFill>
                <a:latin typeface="Verdana"/>
              </a:rPr>
              <a:t> –</a:t>
            </a: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(</a:t>
            </a: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иск по рубрике А6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9/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- «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  <a:ea typeface="Arial"/>
              </a:rPr>
              <a:t>хирургия глаза с помощью лазера»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- дает 1817 докумен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ужаем запрос, добавляя найденные ранее термины, получаем 1017 до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альше запрос нужно сужать в зависимости от задачи, добавляя искомые призна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2973-20B8-4898-9634-27C3503CF0A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otd3202\Desktop\244100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 Narrow"/>
              </a:rPr>
              <a:t>Примеры разной терминолог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ветоотверждение – фотоотверждение; фото- свето-полимеризация – модифицирование, радиационное формова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мера – печь – реакт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зина в состоянии охрупчивания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рески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слой – скин, покрыт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пленка) восстанавливаемая при нагревании – материал с памятью фор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ента – материал; клей – адгези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326C-2A53-4F38-A413-93BE03CE9B4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уть к общей классифик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о середины 20 века – несколько совершенно разных классификац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ая (Европейская) патентная классификация опубликована 1 сентября 1968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дписание Страсбургского соглашения  (197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Ст.1 Страсбургского Соглашения основан Специальный Союз по МП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 24 марта 1971г Международная (Европейская) патентная классификация считается первой редакцией МП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CA6E-7F23-4A10-B81D-41C16B212AC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Международные классифик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62 стран – членов Специального Союза по МПК - классифицирование патентных документов по МПК является обязательным. Используют МПК – более 100 стра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 января 2006г, после завершения длительной реформы, МПК стала полностью электронным продукт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талонная версия (официальная публикация) МПК находится на сайте ВОИС по адресу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eb2.wipo.int/classifications/ipc/ipcpu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вместимост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CL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P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завершена к 1991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японских классификаций на базе МП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СРС – Совместной патентной кооперации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operative patent classificatio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C923-0047-4CDB-AF3B-3D98BAC433A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01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 Narrow"/>
              </a:rPr>
              <a:t>Действующие классификац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(1971г) - Страсбургское соглаш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7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уб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(1978г) – основана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C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90 000 руб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-te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(1984г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(«фасеточная»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80 000 руб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РС (2013г) – основана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C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59 000 руб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A888-4E38-4ADB-8EF6-D7E051A0F96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айт ВОИ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EEBD-8B42-4BD3-9701-4DAC3061E95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03120" y="1428840"/>
            <a:ext cx="8537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МПК на русском язык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B5DB-0757-4EF1-B803-3610A7B300E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928880" y="4643280"/>
            <a:ext cx="7215120" cy="1785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8929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7T07:09:43Z</dcterms:created>
  <dc:creator>Максимова В В</dc:creator>
  <dc:description/>
  <dc:language>en-US</dc:language>
  <cp:lastModifiedBy>otd3202</cp:lastModifiedBy>
  <dcterms:modified xsi:type="dcterms:W3CDTF">2019-03-18T07:51:19Z</dcterms:modified>
  <cp:revision>288</cp:revision>
  <dc:subject/>
  <dc:title>Слайд 1</dc:title>
</cp:coreProperties>
</file>